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13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36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D1F65-CC04-44C7-8938-127AE155A2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83F9D-A8A7-4498-962A-180FE9BCB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FE127-727C-4D0F-95B2-65F19DA27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9A6-4EC0-4151-90FF-72C7F6F9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04E-62F7-4F1B-B7AA-72D30620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2A1-A1AD-4A2C-BB80-FD619B82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60B0-A28D-455A-81E4-53DF0480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9FE7-C9D6-41B3-AD09-986BB9D6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4B03-F146-4543-95D2-E108712A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8F52-47D6-473C-BA53-3E21ACE8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2998-0091-460D-84D5-32F7300B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558A-1E3E-4F30-848D-59107275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DD76-2B6D-4111-8270-DD28A893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B046-B74F-4703-8474-547973DE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1EC-06DF-4866-BB62-180DB8A2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4B49-7DBD-4FEA-8F3C-02435BA0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FC37-1480-46FF-AC59-E8EBCA58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81DE-FB0A-41FF-A250-780F601A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DBCB-DBDB-4D52-B0B4-760A2C24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B9ED-ABB6-4CA1-A0DC-E1E64AE8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58797-2399-4277-9591-9E08E9F9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A4D5-D68B-4726-A442-8A764AF0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7CDF5-66B8-430F-AA83-1897E644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D2F03-43F6-4335-978C-4D59B6A5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A0268-11C3-461B-82F6-E54B5BF0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8FEF-44F8-47B3-B69D-CC6B69C2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34203-C858-4698-B15D-2FCE7C5C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04305-BA09-4F6A-B294-5EE54354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5194E-A045-4805-9404-937D4B65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71497-0C0B-498E-B5F4-AD6A2405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7B50A-C1F1-44E2-9F0E-5C98A9AD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AAC87-8D73-4A74-BD8B-1D2ECE31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A6979-F1AF-48C5-8C49-17471F52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32D3B-1CFB-44A9-BFF8-4767D36D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3AAD2-03B6-414F-8305-CCA6652C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F44D4-3429-46B5-A9AD-2CAF447C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021A-D02E-4C85-A765-D919824E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75770-9605-4010-B976-5A59BA5B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0784E-90C8-4541-AD9F-1673DF76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A2BD1-FEF8-4545-B585-441B5DC6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A813E-5211-4127-851A-E31010B6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3BE68-87A4-41F7-8B8B-6063ECBB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95B9D-A2DF-48A5-90E2-3016BFAC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FC43A-D0B6-45AD-A2EE-90D80234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C6B40-D889-4EA2-B825-1AAB7988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DB9EB-EDA0-40FE-BAF0-14B15D70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87F99-0569-4682-A0A7-D4A30C02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942-D7C0-4971-9684-6319F7BA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24B64-6483-47A3-A0C4-D26385DF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B81A3-C1A3-4A9C-ABF7-49EFB34C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6634A-586E-44DD-A454-9D3F1124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14041-7EAC-4168-9ED1-615E9220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B8A69-901A-4537-AA4D-9DFE2AF6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31E03-34D9-4E47-BB78-DE7E0E86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FD539-61CE-4AF6-BD30-D089F988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F01D8-7C53-499B-B8F9-7B0AEF68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9B842-6609-42F9-9117-4964948A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BFED6-3AB9-490B-955D-937B7FDC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EF16-483C-4517-AAE9-F7619659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F4027-9AA4-4304-9E9D-E8656745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3E9A6-0C76-4BC2-ABD5-807189D5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57810-DF13-42D9-A35D-01005187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5BD1F-DD55-4E9A-8881-44B09A6A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B8E22-BEA2-4CEB-B548-384EF31D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A9E94-9123-4B3E-A6BD-DF61DAD3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9A1A3-CF61-4598-A213-6255032C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B06FD-6A6F-4888-8087-C632E2C2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5494C-A702-453A-AE69-5F004894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AC033-CECB-4B39-8095-CC4FC250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BA0-33AB-4E71-9A4F-D5E02834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B921E-B466-4090-A949-ABCCAFD4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65332-B20E-4004-A585-3CB6B0DC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C25A8-FCE3-4699-AF28-4212E310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D7EDE-4BF8-40B8-A6D1-7BDEC8AF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01A47-8377-42D2-BB60-4AFBC233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6F943-CB63-4E5D-9E5C-74B4BCE3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7AF3F-2571-45E2-BE56-0C9C03E6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1BB19-7B7A-4D0A-92DD-8ABF3DB0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4A893-6E51-45C0-A7F5-26C190FC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12B27-5221-4F26-BFC5-04DEC524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A1B-25D9-497E-A78C-6E1BD923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9C12D-E97B-4FA0-A9D0-3AF22B17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06FAF-CB23-49D0-BFAE-F1F0EF1F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3CED7-08D4-4CCE-B631-A6828D1C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9A67B-13F9-4316-ACB3-53504FC1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E7C41-3BA2-4E7D-AAAC-58F3A5AC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8E3AA-3730-4CE6-AA89-4DE3C758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03B05-1F8E-478E-8FD8-0E39DED4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BB723-33C0-4E36-8E51-2507683C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23ACD-CB47-46E5-B710-30C9A4A9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91B65-EB88-4EF4-9BEC-87611CD4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6A4-C623-4C6F-BB3F-C95173C9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D89B2-F4CD-4A54-BDA7-0F59CF74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777A8-B92E-4729-9130-AA095EBB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E3648-0259-4CFB-970C-C8769F5B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7754F-7C91-4206-A257-AC1D74FD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6FB75-1310-412F-BF3D-B86BAA5A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BA116-3EF3-4DC8-918A-803ABEC7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47849-FB7B-4D9A-B414-7F381BF3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D141B-9F9A-4075-B443-CBF3600A35F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FCA0A-C24C-45DD-B526-57710BB76E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73735-112E-4FB0-9D30-1026106CA7A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92601-D4F8-4F12-9F5A-3E57004FE5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C73B3-B498-48F4-9378-7427B323AD1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69FFA-A581-49DB-AAB4-875EFCA35D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E67AD-2E30-4DAE-A26D-241B12B6001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BC78E-A09F-43E7-967F-E3044EB155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0D8E6-36FA-4745-BE6F-6F772253CA2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03DF4-8B8C-4055-947B-5AE3732848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DD41C-99FE-4597-8138-22527D6E3DC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E7A59-7EFC-4810-AFFA-16A51A9C79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9CF61-E626-4959-AF5A-C2C8A18BD5F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F3A52-777B-43EA-9D1F-3E620B02F8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F2EDA-FDE9-4DE4-ADF3-545A1C692F0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E9194-E04F-4CA9-B50E-D5D6709526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78880" cy="2036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1869-189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beral Republican Party formed in 1872 due to wave of disgust w/ political corrup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race Greeley nominated as presidential candidate in 187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ditor of New York Tribune (exposed a lot of Grant’s corruption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nt us another term”- Grant wins el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anic of 1873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verspeculation (too much expans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lation depreciated the value of the greenba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Resumption Act of 1875-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quired government to withdraw greenbacks from circulation &amp; redeem paper currency in gold (in 1879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“Redemption Day” came, few actually traded in greenbacks b/c value had increa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ublican “hard money” policy had political backlash—&gt; election of democratic H.O.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Gilded Age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ame given to post-Civil War era by Mark Twa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Republica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supported personal mora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idwest, Northeast (rural, small town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mocra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Roman Catholics &amp; Lutherans; tolerated differences; opposed a single moral standard for a whole societ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outh, Northern industrial citie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talwar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supported system of swapping civil service jobs for votes, led by Roscoe Conk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pposed by “Half-Breeds” (James G. Blaine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Hayes- Tilden Standoff, 1876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lection of 187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ublican Candidate: Rutherford B. Hay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mocratic Candidate: Samuel Tild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ilden won popular vote but was 1 vote shy of winning Electoral Colle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winner in three states: Louisiana, Florida &amp; South Caroli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 would count votes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esident of Senate was Republica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peaker of the House was Democra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ompromise of 1877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 up an electoral commission of 15 men from Senate, House &amp; Supreme Cour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 determine which party wins electi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ublicans (Hayes) win el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mocrats outraged but agree to let Hayes take office if they withdrew troops from LA &amp; S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The Civil Rights Act of 1875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upposedly guaranteed equal accommodations in public places &amp; prohibited racial discrimin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ater declared unconstitutiona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ast act of radical republicans 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874800" y="1417680"/>
            <a:ext cx="76197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ost-Reconstruction South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mocrats resumed power in the south &amp; exercised discrimination upon blac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arecropping &amp; tenant farm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op-Lien”- storekeepers extended credit to small farmers in return for a lien in their lan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armers remained in debt to merchant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ditions not much better than slaver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3062160" y="4587840"/>
            <a:ext cx="28386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Jim Crow Laws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gal codes of segregation in the sou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acted literacy requirements, voter-registration laws &amp; poll taxes to ensure disenfranchisement of South’s black pop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lessy v. Ferguson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“separate but equal” facilities are constitutional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 reality, life for blacks was unequa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rd # of blacks lynch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5475240" y="4997520"/>
            <a:ext cx="3211560" cy="14605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1362240" y="5321160"/>
            <a:ext cx="2139840" cy="11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ass Conflicts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ailroad Stri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orkers went on strike when their pay was cu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ayes sent troops to quell unres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mmigrants coming to US for work, disappointed when they found n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hinese Exclusion Act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United States prohibited all further immigration from Chin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5" name="Text Placeholder 29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3971880" cy="53276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4275000" y="2254320"/>
            <a:ext cx="46450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people, good general=good presid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experienced politici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 us have peace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nt nominated as Republican candid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ratio Seymour- Democratic candid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loody Shirt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nt w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gave Grant his margin of victory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3781440" y="5376960"/>
            <a:ext cx="148284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Garfield &amp; Arthur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James A. Garfiel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publican candidate, elected president in 188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e was shot by Charles J. Giteau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razed Chicago lawyer (Stalwart) who didn’t get job he wanted in gov’t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ied 11 weeks later (Sept. 19, 1881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Chester Arthur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alwart, Garfield’s VP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came presid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urprised everyone by calling for civil service reform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endleton Ac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rks end of spoils system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6853320" y="4656240"/>
            <a:ext cx="1743120" cy="20620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306600" y="5156280"/>
            <a:ext cx="13417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Election of 1884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mocratic Candidate: Grover Clevel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publicans dug for dirt and discovered an affair &amp; illegitimate s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ublican Candidate: James Bla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ated that the Republicans were the party of “Rum, Romanism &amp; Rebellion” (likely part of reason he lost the electio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ugwump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Republican w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witched parties to supp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evelan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5742000" y="4043520"/>
            <a:ext cx="32004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“</a:t>
            </a: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Old Grover” Takes Over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rst democratic president since Buchan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laced thousands of federal employees w/ Democra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toed a bill to provide seeds to TX farmers affected by drough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government should not support the people”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o vetoed several military pension bill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Cleveland Battles for Lower Tariff 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owing surplus of money in Treasury from high tariffs during w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eveland proposes lower tariff to bring lower prices to consum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urt nations’ factories &amp; economy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riff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big issu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1888 el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Benjamin Harriso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nominated as Republican candid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ins election (Cleveland wins popular vote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7459560" y="4662360"/>
            <a:ext cx="147168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Billion Dollar Congress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amed for lavish spendings, gave pensions to Civil War veterans &amp; increased gov’t purchase of silv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cKinley Tariff Act of 1890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raised tariffs to their highest peacetime level ever (48.4%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ought more trouble to farm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used Republican party to lose support (lose majority in Congress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eveland and the Depression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eveland ran for president again in 1892 el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ly president to be reelected after defea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at divided Populist party* &amp; discredited Republican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anic of 1893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orst economic downturn for the U.S. during 19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centu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verbuilding &amp; overspecul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abor disorders &amp; agricultural depressio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3222720" y="5111640"/>
            <a:ext cx="181764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Sherman Silver Purchase Act of 1890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d by administration of Benjamin Harris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creased amount of silver in circul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used American people to believe less expensive silver was going to replace gold as main form of currenc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erican people began to withdraw their assets in gold, depleting Treasury’s gold supp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ealed by Clevel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6645240" y="5118120"/>
            <a:ext cx="17636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eveland breeds backlash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The 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ilson-Gorman Tariff of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 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189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 lowered tariffs &amp; contained 2% tax on incomes over $4,000. 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upreme Court ruled income taxes unconstitutional in 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1895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used the Democrats to lose positions in Congres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nt, Hayes, Garfield, Arthur, Harrison, and Cleveland were known as the "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gettable presiden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” or “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o nothing presiden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3338640" y="5138640"/>
            <a:ext cx="224460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nest &amp; uprig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akness: loyalty to his frie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fused to admit that some of his friends used him to advance their own fortun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rrup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3457440" y="3527280"/>
            <a:ext cx="2181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stwar atmosphere very unpleas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im Fisk &amp; Jay Gould devised plot to raise the price of gol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ought a large amount of gold, planning to sell it for profi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reasury forced to sell gold from its reserves to lower price of gol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s Grant to blame for thi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"/>
          <p:cNvPicPr/>
          <p:nvPr/>
        </p:nvPicPr>
        <p:blipFill>
          <a:blip r:embed="rId2"/>
          <a:stretch/>
        </p:blipFill>
        <p:spPr>
          <a:xfrm>
            <a:off x="6502320" y="4199040"/>
            <a:ext cx="15922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truction company organized by the Union Pacific Railro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ailroad insiders hired themselves at inflated pr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veral times the cost of actual job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any distributed stock to congress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gressmen also involved in cover-u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2851200" y="4659480"/>
            <a:ext cx="334656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gressmen voted themselves 50% pay raise on last day of ses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$5,000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$7,50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troactive for 2 yea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ealed next session due to public outr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iskey distillers who had to pay revenue taxes had to pay double if tried to cheat the governmen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rmers received 19% of tax revenue as a rewar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rmer could collect more by blackmailing the tax evading distill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phoned off millions of dollars on liqu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2"/>
          <a:stretch/>
        </p:blipFill>
        <p:spPr>
          <a:xfrm>
            <a:off x="3478320" y="4976640"/>
            <a:ext cx="19047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ss Tweed and Tammany Hall controlled the politics of NYC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mployed bribery, graft and fraudulent elections (200 million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t support of immigrants by giving them pres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ft= use of politician’s autho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personal ga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muel J. Tilden- NY attorney w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aded prosecution of Twe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t in pris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2"/>
          <a:stretch/>
        </p:blipFill>
        <p:spPr>
          <a:xfrm>
            <a:off x="6821640" y="3936960"/>
            <a:ext cx="23223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2247840" y="888840"/>
            <a:ext cx="464832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23:07:06Z</dcterms:created>
  <dc:creator>Emily Johnson</dc:creator>
  <dc:description/>
  <dc:language>en-US</dc:language>
  <cp:lastModifiedBy>emily.johnson</cp:lastModifiedBy>
  <dcterms:modified xsi:type="dcterms:W3CDTF">2013-01-09T20:56:32Z</dcterms:modified>
  <cp:revision>13</cp:revision>
  <dc:subject/>
  <dc:title>Chapter 23: Political Paralysis in the Gilded Age</dc:title>
</cp:coreProperties>
</file>